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B8F-8D7B-4621-871C-384D5DAB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FFF-BB11-4976-95E0-62131BC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5A8-B036-4369-A5CB-1DB18A01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F3A-51CC-47D2-A008-901C96DC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D615-9793-482A-9B49-51C2A83C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392-ED2A-41FA-936B-1E7BFCD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DDC5-6A30-46AD-B046-B25BBDC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A7D8-8FCE-4BAA-BDA2-DFAA9AD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6BD0-2D82-4F10-847E-07658A63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0DFF-F6FD-415C-B64A-F8369CD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2A4-BBEF-404D-9016-5B8F1FF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A3E-5E8B-4E5D-B82E-EB7F065B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2EA-9F2A-4FB5-8388-A47DB49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991-5C4F-4712-896A-45D289F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D1E-33E1-4197-83F4-CD1CE86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FE2-630A-4D2F-B5F7-CA9A2161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CC54-1487-45A6-AB7C-763955A0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36407-5819-4365-BF9E-41D0BDF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F815B-DC93-4BDE-8FCE-58736AD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0D267-762E-4533-B4D8-0EEE429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858B0-B02A-4192-89B7-07BC4B5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FBF91-D140-493B-BB50-86CF0F50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9AB-005C-4DB8-B1EB-F1E553A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9D361-6B36-49BA-9E93-4CAF630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06E71-222D-4991-B8C2-974DB81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A5024-B8A1-45CB-BB97-689241B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78D6E-7384-4CE3-8D9B-2F02BF6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1EFBA-74BE-43E7-8A78-CF92F75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932B3-3778-4EA1-B30B-22F64805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3CE6F-9251-4DF2-9DBC-DF5C1396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1445-5248-4325-9C01-99B75250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0C69-9BD9-4A63-B923-F910630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03B2-B0C2-423F-936F-46CA026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417-69DB-4EC7-9714-E6357BC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D507-1BB3-4D77-8AA1-613CFB27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DC44-44EB-4060-B8CA-9614D40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9A76-9663-460D-A65A-C14316C7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FCCA-CE84-4073-B581-1441D38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0E7A-76FD-4232-BD78-4555F19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686D-A9E1-4FEF-81BF-4A041E5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E86C-1CE5-4CE5-B217-7169886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29A1-6BD2-4442-8394-C09ACD53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9DD2-D4C1-4D90-9154-4B1B760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487-A907-44F9-AD10-34A8B094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0A2-5D77-4EF5-9803-F1C77657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A0C-1DDF-4F70-A4ED-D5F685F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1B0-C70B-40D7-9C61-41D7554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777-E27D-42BB-A789-43F1259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3E21-16F4-4559-B168-0FF70013B589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67c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F5B-2A89-4374-821B-51F788B3F041}" type="slidenum">
              <a:rPr b="0" lang="en-US" sz="1200" spc="-1" strike="noStrike">
                <a:solidFill>
                  <a:srgbClr val="4e67c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755-0D33-4E01-97C4-405891854F62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E11B-DCE0-4A1C-9E75-6A438106ACD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Do Now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nswer the following question in complete sentences. Try to list at least three possibiliti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745"/>
                </a:solidFill>
                <a:latin typeface="Arial"/>
              </a:rPr>
              <a:t>What might someone say to refute or disprove your argument?</a:t>
            </a: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On your own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omplete the Counterclaim worksheet by writing possible counterclaims for each topic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0" y="2707920"/>
            <a:ext cx="365760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36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424242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424242"/>
                </a:solidFill>
                <a:latin typeface="Arial"/>
              </a:rPr>
              <a:t> Grade Language Arts</a:t>
            </a:r>
            <a:endParaRPr b="0" lang="en-US" sz="1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e67c8"/>
                </a:solidFill>
                <a:latin typeface="Arial Black"/>
              </a:rPr>
              <a:t>The Argumentative Essay</a:t>
            </a:r>
            <a:endParaRPr b="0" lang="en-US" sz="43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1447560"/>
            <a:ext cx="80769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00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Uses evidence to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both 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show one’s own position </a:t>
            </a:r>
            <a:r>
              <a:rPr b="1" lang="en-US" sz="4400" spc="-1" strike="noStrike" u="sng">
                <a:solidFill>
                  <a:srgbClr val="212745"/>
                </a:solidFill>
                <a:uFillTx/>
                <a:latin typeface="Arial"/>
              </a:rPr>
              <a:t>and</a:t>
            </a:r>
            <a:r>
              <a:rPr b="1" lang="en-US" sz="4400" spc="-1" strike="noStrike">
                <a:solidFill>
                  <a:srgbClr val="212745"/>
                </a:solidFill>
                <a:latin typeface="Arial"/>
              </a:rPr>
              <a:t> to refute the opposing argument.</a:t>
            </a:r>
            <a:endParaRPr b="0" lang="en-US" sz="4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1" name="Picture 5" descr="C:\Users\lgoodine\AppData\Local\Microsoft\Windows\Temporary Internet Files\Content.IE5\NZSFGQJ0\Web_Proof[1].jpg"/>
          <p:cNvPicPr/>
          <p:nvPr/>
        </p:nvPicPr>
        <p:blipFill>
          <a:blip r:embed="rId1"/>
          <a:srcRect l="19083" t="16849" r="15569" b="15442"/>
          <a:stretch/>
        </p:blipFill>
        <p:spPr>
          <a:xfrm>
            <a:off x="2895480" y="4114800"/>
            <a:ext cx="3505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Argument Paper Map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480" y="1142640"/>
            <a:ext cx="83059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1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2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Supporting reason 3: Including evidence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Counterclaim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cluding evidence to refute opposing claim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5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01000" cy="147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67c8"/>
                </a:solidFill>
                <a:latin typeface="Arial"/>
              </a:rPr>
              <a:t>Use one paragraph for your counterclaim.  Also, be sure to respond to the opposing claim (rebuttal).</a:t>
            </a:r>
            <a:endParaRPr b="0" lang="en-US" sz="2800" spc="-1" strike="noStrike">
              <a:solidFill>
                <a:srgbClr val="4e67c8"/>
              </a:solidFill>
              <a:latin typeface="Arial Black"/>
            </a:endParaRPr>
          </a:p>
        </p:txBody>
      </p:sp>
      <p:pic>
        <p:nvPicPr>
          <p:cNvPr id="345" name="Picture 5" descr="C:\Documents and Settings\markboles\Local Settings\Temporary Internet Files\Content.IE5\LA10XMMH\MP900441090[1].jpg"/>
          <p:cNvPicPr/>
          <p:nvPr/>
        </p:nvPicPr>
        <p:blipFill>
          <a:blip r:embed="rId1"/>
          <a:stretch/>
        </p:blipFill>
        <p:spPr>
          <a:xfrm>
            <a:off x="762120" y="2514600"/>
            <a:ext cx="3659040" cy="3648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markboles\Local Settings\Temporary Internet Files\Content.IE5\HFNMJTGB\MP900438312[1].jpg"/>
          <p:cNvPicPr/>
          <p:nvPr/>
        </p:nvPicPr>
        <p:blipFill>
          <a:blip r:embed="rId2"/>
          <a:stretch/>
        </p:blipFill>
        <p:spPr>
          <a:xfrm>
            <a:off x="4648320" y="251460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Counterclaim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 claim made to offset or disprove another claim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49" name="Picture 2" descr="C:\Users\lgoodine\AppData\Local\Microsoft\Windows\Temporary Internet Files\Content.IE5\9ESAO2XW\show-me-the-evidence[1].png"/>
          <p:cNvPicPr/>
          <p:nvPr/>
        </p:nvPicPr>
        <p:blipFill>
          <a:blip r:embed="rId1"/>
          <a:srcRect l="0" t="0" r="28270" b="0"/>
          <a:stretch/>
        </p:blipFill>
        <p:spPr>
          <a:xfrm>
            <a:off x="2209680" y="3352680"/>
            <a:ext cx="498816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3712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Schools should continue selling chocolate milk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Chocolate milk has a lot of added suga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: 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Although chocolate milk has more sugar than plain low-fat milk, students are still getting a serving of Calcium, and Vitamins A and D, which are valuable to their heath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2" name="Picture 3" descr="C:\Users\lgoodine\AppData\Local\Microsoft\Windows\Temporary Internet Files\Content.IE5\NZSFGQJ0\8ozRoundBottles[1].jpg"/>
          <p:cNvPicPr/>
          <p:nvPr/>
        </p:nvPicPr>
        <p:blipFill>
          <a:blip r:embed="rId1"/>
          <a:stretch/>
        </p:blipFill>
        <p:spPr>
          <a:xfrm>
            <a:off x="2133720" y="4114800"/>
            <a:ext cx="51051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Refute your counterclaim!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Physical education should be required by students everyday in school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Counterclaim: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Requiring physical education every day will make it more difficult for students to take other elective classes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efute</a:t>
            </a:r>
            <a:r>
              <a:rPr b="1" lang="en-US" sz="2400" spc="-1" strike="noStrike">
                <a:solidFill>
                  <a:srgbClr val="212745"/>
                </a:solidFill>
                <a:latin typeface="Arial"/>
              </a:rPr>
              <a:t> the counterclaim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: Although requiring students to take physical education everyday may not allow students to take all the electives they want, students will be dramatically healthier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355" name="Picture 9" descr="http://sports.pppst.com/banner_pe2.gif"/>
          <p:cNvPicPr/>
          <p:nvPr/>
        </p:nvPicPr>
        <p:blipFill>
          <a:blip r:embed="rId1"/>
          <a:stretch/>
        </p:blipFill>
        <p:spPr>
          <a:xfrm>
            <a:off x="457200" y="4648320"/>
            <a:ext cx="8077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Arial Black"/>
              </a:rPr>
              <a:t>Together…</a:t>
            </a:r>
            <a:endParaRPr b="0" lang="en-US" sz="4000" spc="-1" strike="noStrike">
              <a:solidFill>
                <a:srgbClr val="4e67c8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Read and mark </a:t>
            </a: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rhetorical devices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212745"/>
                </a:solidFill>
                <a:uFillTx/>
                <a:latin typeface="Arial"/>
              </a:rPr>
              <a:t>claims and counterclaims</a:t>
            </a:r>
            <a:r>
              <a:rPr b="0" lang="en-US" sz="2400" spc="-1" strike="noStrike">
                <a:solidFill>
                  <a:srgbClr val="212745"/>
                </a:solidFill>
                <a:latin typeface="Arial"/>
              </a:rPr>
              <a:t>, in the article “Failure to Ban Violent Video Games.”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1:53:34Z</dcterms:created>
  <dc:creator>Ed Garrison</dc:creator>
  <dc:description/>
  <dc:language>en-US</dc:language>
  <cp:lastModifiedBy>Goodine, Lindsey</cp:lastModifiedBy>
  <dcterms:modified xsi:type="dcterms:W3CDTF">2015-02-10T12:45:59Z</dcterms:modified>
  <cp:revision>7</cp:revision>
  <dc:subject/>
  <dc:title>Writing Part 4:   Argument Writing</dc:title>
</cp:coreProperties>
</file>